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6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jpeg" ContentType="image/jpeg"/>
  <Override PartName="/ppt/media/image23.png" ContentType="image/png"/>
  <Override PartName="/ppt/media/image31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jpeg" ContentType="image/jpeg"/>
  <Override PartName="/ppt/media/image30.png" ContentType="image/png"/>
  <Override PartName="/ppt/media/image10.jpeg" ContentType="image/jpeg"/>
  <Override PartName="/ppt/media/image38.jpeg" ContentType="image/jpeg"/>
  <Override PartName="/ppt/media/image28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70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96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70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96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75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70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9600" y="22860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70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9600" y="443556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75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9160" y="443556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9160" y="22860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43556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28600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4800" y="6362640"/>
            <a:ext cx="41958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5</a:t>
            </a:r>
            <a:r>
              <a:rPr b="0" lang="en-US" sz="800" spc="-1" strike="noStrike" baseline="30000">
                <a:solidFill>
                  <a:srgbClr val="0033cc"/>
                </a:solidFill>
                <a:latin typeface="Microsoft Sans Serif"/>
                <a:ea typeface="Times New Roman"/>
              </a:rPr>
              <a:t>th</a:t>
            </a: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 e-VLBI Workshop, Haystack Observatory, September 2006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1080" cy="70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534520" y="0"/>
            <a:ext cx="1368360" cy="73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4800" y="6362640"/>
            <a:ext cx="28828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EVN Symposium 2004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28080" y="314280"/>
            <a:ext cx="1368360" cy="735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image" Target="../media/image38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7440" y="157788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e-VLBI Developments at J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95360" y="4241880"/>
            <a:ext cx="36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rpad Szom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70040" y="1336680"/>
            <a:ext cx="6703920" cy="18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Australia</a:t>
            </a: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lescopes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CEVN-Mk5 interfac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3280" y="3840120"/>
            <a:ext cx="6703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7720" y="3247920"/>
            <a:ext cx="6703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hi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hanghai Observatory connected at 2.5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nnection via TEIN (622Mbps), ORIENT? Issues with CERNET, CST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rect lightpath Hong Kong-Netherl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715680" y="464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c0128"/>
                </a:solidFill>
                <a:latin typeface="Times New Roman"/>
              </a:rPr>
              <a:t>And other continents..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3704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" y="1184400"/>
            <a:ext cx="7925040" cy="5673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17760" y="40788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c0128"/>
                </a:solidFill>
                <a:latin typeface="Times New Roman"/>
              </a:rPr>
              <a:t>Hybrid networks in the Netherlands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41400" y="884160"/>
            <a:ext cx="3852720" cy="5137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6400" y="1947960"/>
            <a:ext cx="4137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cc"/>
                </a:solidFill>
                <a:latin typeface="Times New Roman"/>
              </a:rPr>
              <a:t>Switch from Cisco to Nortel/Avici equipment has been completed: for now, 7 * 1 Gbps, ultimately 16 * 1 Gb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Outline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84360" y="1089000"/>
            <a:ext cx="6213600" cy="514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00080" y="685800"/>
            <a:ext cx="829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c0128"/>
                </a:solidFill>
                <a:latin typeface="Times New Roman"/>
              </a:rPr>
              <a:t>..and across Europe: G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É</a:t>
            </a:r>
            <a:r>
              <a:rPr b="0" lang="nl-NL" sz="3200" spc="-1" strike="noStrike">
                <a:solidFill>
                  <a:srgbClr val="fc0128"/>
                </a:solidFill>
                <a:latin typeface="Times New Roman"/>
              </a:rPr>
              <a:t>ANT2 network up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9360" y="134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c0128"/>
                </a:solidFill>
                <a:latin typeface="Times New Roman"/>
              </a:rPr>
              <a:t>EXPReS: now what?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63520" y="1187280"/>
            <a:ext cx="7858080" cy="51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c0128"/>
                </a:solidFill>
                <a:latin typeface="Times New Roman"/>
              </a:rPr>
              <a:t>SA1</a:t>
            </a: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: new hires at JIV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(two software engineers, one network engineer, one e-VLBI postd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Inclusion of e-MERLIN telescopes in e-EV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Operational improvement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(deliverable drive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f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tion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 still, pushing data rates, </a:t>
            </a: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protocol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, UDP, Circuit TCP? Get rid of fairness… Better usage of available bandwid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e-VLBI control interface</a:t>
            </a:r>
            <a:br>
              <a:rPr sz="4400"/>
            </a:b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7200" y="2535120"/>
            <a:ext cx="8393040" cy="28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Interface to station Mk5s</a:t>
            </a:r>
            <a:br>
              <a:rPr sz="4400"/>
            </a:b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55520" y="1930320"/>
            <a:ext cx="773280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4680" y="53928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Runtime control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54040" y="2046240"/>
            <a:ext cx="689616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4680" y="53928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Integrating fringe display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73280" y="1674720"/>
            <a:ext cx="6227640" cy="46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8760" y="17748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Data status monitor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2400" y="1371600"/>
            <a:ext cx="5877000" cy="4702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40200" y="1689120"/>
            <a:ext cx="5803920" cy="46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Outline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760" y="2863800"/>
            <a:ext cx="7756560" cy="29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us, rece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twork up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PReS: fir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nnectivity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 futur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3000" y="3776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Streamlining of post processing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97040" y="2016000"/>
            <a:ext cx="834372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040" y="235080"/>
            <a:ext cx="802332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Web-based Post-processing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782800" y="1152360"/>
            <a:ext cx="638964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6440" y="46008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c0128"/>
                </a:solidFill>
                <a:latin typeface="Times New Roman"/>
              </a:rPr>
              <a:t>Ongoing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20760" y="1066680"/>
            <a:ext cx="7858080" cy="53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New control computer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(Solaris AMD ser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ut down on (re-)star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werful code development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ghtening up of exist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erational within next few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Other hardware upgr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X optics (fibres + NICs), managed switches at JIVE and S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rk5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: motherboards, memory, power supplies, serial links, CI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66880" y="495360"/>
            <a:ext cx="8827920" cy="23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cc"/>
                </a:solidFill>
                <a:latin typeface="Times New Roman"/>
              </a:rPr>
              <a:t>FABRIC: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stributed software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igh bandwidth data transport (On part of e-MERLIN @ 4G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wo new hires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28360" y="253008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c0128"/>
                </a:solidFill>
                <a:latin typeface="Times New Roman"/>
              </a:rPr>
              <a:t>And coming..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3280" y="3840120"/>
            <a:ext cx="6703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3160" y="3656160"/>
            <a:ext cx="670428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CAR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llaboration with SARA and U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stributed software correlation using Dutch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mbda switching, dynamical allocation of light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JIVE postdoc hired, still looking for UvA post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8240" cy="127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73800" y="3852720"/>
            <a:ext cx="2651040" cy="2440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AB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he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71280" y="-3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FABRIC components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13120" y="1017720"/>
            <a:ext cx="2417760" cy="1079280"/>
          </a:xfrm>
          <a:prstGeom prst="ellipse">
            <a:avLst/>
          </a:prstGeom>
          <a:solidFill>
            <a:srgbClr val="e7ee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bserving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 VE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57360" y="7461360"/>
            <a:ext cx="98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3680" y="2637000"/>
            <a:ext cx="2495520" cy="122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5440" y="693720"/>
            <a:ext cx="1949400" cy="863640"/>
          </a:xfrm>
          <a:prstGeom prst="ellipse">
            <a:avLst/>
          </a:prstGeom>
          <a:solidFill>
            <a:srgbClr val="e7ee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user 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75000" y="847800"/>
            <a:ext cx="1833840" cy="936720"/>
          </a:xfrm>
          <a:prstGeom prst="ellipse">
            <a:avLst/>
          </a:prstGeom>
          <a:solidFill>
            <a:srgbClr val="e7ee8a"/>
          </a:solid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sourc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00840" y="3284640"/>
            <a:ext cx="2417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98760" y="4581360"/>
            <a:ext cx="1245960" cy="9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0200" y="2654280"/>
            <a:ext cx="2374560" cy="863640"/>
          </a:xfrm>
          <a:prstGeom prst="rect">
            <a:avLst/>
          </a:prstGeom>
          <a:solidFill>
            <a:srgbClr val="5597bf"/>
          </a:solid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rrelato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includin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13120" y="2494080"/>
            <a:ext cx="1795320" cy="852480"/>
          </a:xfrm>
          <a:prstGeom prst="rect">
            <a:avLst/>
          </a:prstGeom>
          <a:solidFill>
            <a:srgbClr val="5597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iel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ntrols 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d 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7280" y="2816280"/>
            <a:ext cx="1012680" cy="12301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B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V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4280" y="4670280"/>
            <a:ext cx="1012680" cy="1160640"/>
          </a:xfrm>
          <a:prstGeom prst="rect">
            <a:avLst/>
          </a:prstGeom>
          <a:solidFill>
            <a:srgbClr val="808080"/>
          </a:solid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57360" y="4730760"/>
            <a:ext cx="1973520" cy="1711440"/>
          </a:xfrm>
          <a:prstGeom prst="diamond">
            <a:avLst/>
          </a:prstGeom>
          <a:solidFill>
            <a:srgbClr val="54da77"/>
          </a:solid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VSIe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n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38400" y="2097000"/>
            <a:ext cx="0" cy="39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5360" y="1990800"/>
            <a:ext cx="1187280" cy="63504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91280" y="1557360"/>
            <a:ext cx="200160" cy="106848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597440" y="2133720"/>
            <a:ext cx="423720" cy="49212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598400" y="1990800"/>
            <a:ext cx="41436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598400" y="3068640"/>
            <a:ext cx="414360" cy="0"/>
          </a:xfrm>
          <a:prstGeom prst="line">
            <a:avLst/>
          </a:prstGeom>
          <a:ln w="12600">
            <a:solidFill>
              <a:srgbClr val="00ae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11360" y="3346560"/>
            <a:ext cx="660240" cy="174924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1360" y="5337000"/>
            <a:ext cx="846000" cy="249480"/>
          </a:xfrm>
          <a:prstGeom prst="line">
            <a:avLst/>
          </a:prstGeom>
          <a:ln w="633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30880" y="5586480"/>
            <a:ext cx="1042920" cy="0"/>
          </a:xfrm>
          <a:prstGeom prst="line">
            <a:avLst/>
          </a:prstGeom>
          <a:ln w="633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51960" y="3751200"/>
            <a:ext cx="917640" cy="1835280"/>
          </a:xfrm>
          <a:prstGeom prst="ellipse">
            <a:avLst/>
          </a:prstGeom>
          <a:solidFill>
            <a:srgbClr val="e7ee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21520" y="4730760"/>
            <a:ext cx="730440" cy="144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74600" y="2390760"/>
            <a:ext cx="0" cy="4255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2000" y="4046400"/>
            <a:ext cx="0" cy="6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11120" y="836640"/>
            <a:ext cx="1200240" cy="1554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5775480" y="3852720"/>
            <a:ext cx="423720" cy="760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47000" y="1454040"/>
            <a:ext cx="1832040" cy="936720"/>
          </a:xfrm>
          <a:prstGeom prst="ellipse">
            <a:avLst/>
          </a:prstGeom>
          <a:solidFill>
            <a:srgbClr val="e7ee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earth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5473800" y="5103720"/>
            <a:ext cx="425520" cy="760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7597800" y="5070600"/>
            <a:ext cx="423720" cy="760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6667560" y="5586480"/>
            <a:ext cx="423720" cy="76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7091280" y="3821040"/>
            <a:ext cx="425520" cy="760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38400" y="3751200"/>
            <a:ext cx="1973160" cy="1711440"/>
          </a:xfrm>
          <a:prstGeom prst="diamond">
            <a:avLst/>
          </a:prstGeom>
          <a:solidFill>
            <a:srgbClr val="54da77"/>
          </a:solid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611360" y="4613400"/>
            <a:ext cx="1427040" cy="723600"/>
          </a:xfrm>
          <a:prstGeom prst="line">
            <a:avLst/>
          </a:prstGeom>
          <a:ln w="633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011560" y="4292280"/>
            <a:ext cx="763920" cy="320760"/>
          </a:xfrm>
          <a:prstGeom prst="line">
            <a:avLst/>
          </a:prstGeom>
          <a:ln w="633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4920" y="5025960"/>
            <a:ext cx="8254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C-EV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3960" y="2625840"/>
            <a:ext cx="2374920" cy="863640"/>
          </a:xfrm>
          <a:prstGeom prst="rect">
            <a:avLst/>
          </a:prstGeom>
          <a:solidFill>
            <a:srgbClr val="5597bf"/>
          </a:solidFill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source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d 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0" cy="914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73800" y="1630440"/>
            <a:ext cx="0" cy="99540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75000" y="1763640"/>
            <a:ext cx="2816280" cy="86220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611360" y="3489480"/>
            <a:ext cx="2394000" cy="161424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73800" y="3489480"/>
            <a:ext cx="301680" cy="37116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291080" y="3489480"/>
            <a:ext cx="306360" cy="33156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2360" y="652320"/>
            <a:ext cx="7520040" cy="5832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224040" y="154476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cc"/>
                </a:solidFill>
                <a:latin typeface="Times New Roman"/>
              </a:rPr>
              <a:t>Martin Sw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7080" y="768240"/>
            <a:ext cx="714060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12680" y="1837800"/>
            <a:ext cx="7756560" cy="340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 Heavy duty gamer P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yan Thunder K8WE Mother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al AMD Opteron 2.4GHz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4GB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 1Gb PCI-Expres 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one at Torun, back-to-back to Mar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ond one located at Poznan Supercomputing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96600" y="9075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c0128"/>
                </a:solidFill>
                <a:latin typeface="Times New Roman"/>
              </a:rPr>
              <a:t>Protocols (1)</a:t>
            </a:r>
            <a:br>
              <a:rPr sz="3600"/>
            </a:b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65560" y="1058760"/>
            <a:ext cx="726768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Mix of High Speed and Westwood TCP (San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30360" y="2066760"/>
            <a:ext cx="643572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c0128"/>
                </a:solidFill>
                <a:latin typeface="Times New Roman"/>
              </a:rPr>
              <a:t>Protocols (2)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Circuit TCP (Mudambi, Zheng and Veeraraghav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Meant for Dedicated End-to-End Circuits, fixed congestion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No slow start, no backoff: finally, a TCP rude enough for e-VLB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863960" y="528480"/>
            <a:ext cx="372456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3440" y="4395960"/>
            <a:ext cx="1843200" cy="142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44720" y="490680"/>
            <a:ext cx="144432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-8566200" y="338040"/>
            <a:ext cx="56134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386160" y="584280"/>
            <a:ext cx="1432080" cy="129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448240" y="923760"/>
            <a:ext cx="1392120" cy="132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502320" y="1727280"/>
            <a:ext cx="1344600" cy="126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643120" y="1785960"/>
            <a:ext cx="1332000" cy="136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1762200" y="2674800"/>
            <a:ext cx="1006560" cy="12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7596360" y="4206960"/>
            <a:ext cx="1885680" cy="1257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5127480" y="5213520"/>
            <a:ext cx="1809720" cy="1368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>
            <a:off x="2165400" y="5025960"/>
            <a:ext cx="1927080" cy="1535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66640" y="587844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c0128"/>
                </a:solidFill>
                <a:latin typeface="Times New Roman"/>
              </a:rPr>
              <a:t>155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91440" y="548316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c0128"/>
                </a:solidFill>
                <a:latin typeface="Times New Roman"/>
              </a:rPr>
              <a:t>10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86640" y="6148440"/>
            <a:ext cx="17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c0128"/>
                </a:solidFill>
                <a:latin typeface="Times New Roman"/>
              </a:rPr>
              <a:t>2.5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44920" y="279576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c0128"/>
                </a:solidFill>
                <a:latin typeface="Times New Roman"/>
              </a:rPr>
              <a:t>1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7711920" y="2505240"/>
            <a:ext cx="1371600" cy="132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>
            <a:off x="7097760" y="4973760"/>
            <a:ext cx="1697040" cy="1444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6070680" y="3633840"/>
            <a:ext cx="1539720" cy="15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c0128"/>
                </a:solidFill>
                <a:latin typeface="Times New Roman"/>
              </a:rPr>
              <a:t>Protocols (3)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Home-grown version of CTCP using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luggable TCP congestion avoidance algorith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 in newer Linux kernels (Mark Ketten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Rock-steady 560 Mbps transfer using iperf from Mc to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Serious problem with new version of Mk5A software under newer 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3800" y="6188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c0128"/>
                </a:solidFill>
                <a:latin typeface="Times New Roman"/>
              </a:rPr>
              <a:t>e-EVN: the futur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37880" y="1739880"/>
            <a:ext cx="7661160" cy="47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Aim: </a:t>
            </a:r>
            <a:r>
              <a:rPr b="0" lang="nl-NL" sz="2400" spc="-1" strike="noStrike">
                <a:solidFill>
                  <a:srgbClr val="fc0128"/>
                </a:solidFill>
                <a:latin typeface="Times New Roman"/>
              </a:rPr>
              <a:t>16 * 1 Gbps production e-EVN network</a:t>
            </a: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IP: not possible/afford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10 Gbps lightpath across Europe:  currently ~20k</a:t>
            </a: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€/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Lightpaths across G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É</a:t>
            </a: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ANT terminating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If possible, all the way from telescopes. If not, overprovisioned IP connections from telescopes to G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É</a:t>
            </a: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ANT, lightpaths from there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Guaranteed bandwidth, possibility to use ethernet frames, no more need to worry about congestion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A true connected-element interfe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38320" y="752400"/>
            <a:ext cx="413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85880" y="2378160"/>
            <a:ext cx="7993080" cy="3752640"/>
            <a:chOff x="785880" y="2378160"/>
            <a:chExt cx="7993080" cy="3752640"/>
          </a:xfrm>
        </p:grpSpPr>
        <p:sp>
          <p:nvSpPr>
            <p:cNvPr id="250" name=""/>
            <p:cNvSpPr/>
            <p:nvPr/>
          </p:nvSpPr>
          <p:spPr>
            <a:xfrm>
              <a:off x="1073160" y="2378160"/>
              <a:ext cx="1872000" cy="7207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External L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05520" y="3962520"/>
              <a:ext cx="1224000" cy="7207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78960" y="4033800"/>
              <a:ext cx="936360" cy="5763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29880" y="4033800"/>
              <a:ext cx="649080" cy="5763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Mk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29880" y="3241800"/>
              <a:ext cx="649080" cy="5760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Mk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29880" y="4826160"/>
              <a:ext cx="649080" cy="5760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Mk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10600" y="46101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936440" y="597852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5880" y="57625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10 G 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09880" y="309888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25880" y="3098880"/>
              <a:ext cx="122400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85880" y="43228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29520" y="432288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7913880" y="3457440"/>
              <a:ext cx="21600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3880" y="43228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13880" y="4322880"/>
              <a:ext cx="216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49880" y="3962520"/>
              <a:ext cx="1224000" cy="7207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73880" y="43228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49520" y="4033800"/>
              <a:ext cx="936720" cy="5763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4781520" y="4069800"/>
              <a:ext cx="71640" cy="1728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05520" y="504180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Dynamic capabilities through D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86240" y="4394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N 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58240" y="39625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N 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45160" y="324180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s, STM-64 di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20760" y="8949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c0128"/>
                </a:solidFill>
                <a:latin typeface="Times New Roman"/>
              </a:rPr>
              <a:t>Proposed connection Surfnet-JIVE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Recent developments</a:t>
            </a:r>
            <a:br>
              <a:rPr sz="4400"/>
            </a:b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25360" y="2119320"/>
            <a:ext cx="7756560" cy="36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gular science/test sessions throughout the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</a:rPr>
              <a:t>First open calls for e-VLBI science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science run completely lost, but, first ever real-time fringes to Mc (128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and third science runs: many hours of smooth sailing at 128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1760" y="49968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760" y="1795320"/>
            <a:ext cx="7756560" cy="44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-station fringes at 256 Mbps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irst European 512 Mbps fringes (Jb and Wb, May 18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-station 512 Mbps fringes (Cm, Wb, On, August 21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irst fringes using new 5 GHz receiver at Mc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onne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r: 64 Mbps in the past, but  &lt;32 Mbps this year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uropean telescopes: 128 Mbps always, 256 Mbps often, 512 Mbps to Wb, Jb and On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21400" y="507960"/>
            <a:ext cx="4246560" cy="587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7120" y="474840"/>
            <a:ext cx="4176720" cy="59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775800"/>
            <a:ext cx="871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c0128"/>
                </a:solidFill>
                <a:latin typeface="Times New Roman"/>
              </a:rPr>
              <a:t>Tr connectivity bottleneck - solve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75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07920" y="2133720"/>
            <a:ext cx="8417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lack Diamond 6808 swit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ew interfaces (10GE) system in old architecture (1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iginally 8x1GE interface per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0GE NIC served by 8 x 1GE que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Queuing regime – RR (packet based) and flow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low bas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x. flow capacity – 1Gbit/s – backround traf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There is no known reordering workaround to solve this problem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360" y="3535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c0128"/>
                </a:solidFill>
                <a:latin typeface="Times New Roman"/>
              </a:rPr>
              <a:t>e-VLBI to South America? SMART-1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18200" y="1274400"/>
            <a:ext cx="405288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SMART-1 factsheet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Testing solar-electric propulsion and other deep-space technologies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Name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 stands for Small Missions for Advanced Research in Technology. 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Description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-1 is the first of ESA’s Small Missions for Advanced Research in Technology. It travelled to the Moon using solar-electric propulsion and carrying a battery of miniaturised instru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As well as testing new technology, SMART-1 is making the first comprehensive inventory of key chemical elements in the lunar surface. It is also investigating the theory that the Moon was formed following the violent collision of a smaller planet with Earth, four and a half thousand million years ago.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Launched 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27 September 2003 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Status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Arrived in lunar orbit, 15 November 2004. Conducting lunar orbit science operations. 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Notes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-1 is the first European spacecraft to travel to and orbit around the Mo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This is only the second time that ion propulsion has been used as a mission's primary propulsion system (the first was NASA's Deep Space 1 probe launched in October 1998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SMART-1 is looking for water (in the form of ice) on the Mo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To save precious xenon fuel, SMART-1 uses 'celestial mechanics', that is, techniques such as making use of 'lunar resonances' and fly-bys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8880" y="3166920"/>
            <a:ext cx="4265640" cy="2986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65200" y="1512720"/>
            <a:ext cx="2397240" cy="191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143160" y="1293840"/>
            <a:ext cx="6488280" cy="5043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02000" y="47628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c0128"/>
                </a:solidFill>
                <a:latin typeface="Times New Roman"/>
              </a:rPr>
              <a:t>e-VLBI to Sourth Americ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1640" y="1657440"/>
            <a:ext cx="5037120" cy="411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8:22:56Z</dcterms:created>
  <dc:creator>parsley</dc:creator>
  <dc:description/>
  <dc:language>en-US</dc:language>
  <cp:lastModifiedBy>System Management</cp:lastModifiedBy>
  <cp:lastPrinted>2001-03-09T11:05:18Z</cp:lastPrinted>
  <dcterms:modified xsi:type="dcterms:W3CDTF">2006-09-19T13:35:16Z</dcterms:modified>
  <cp:revision>222</cp:revision>
  <dc:subject/>
  <dc:title>eVLBI Progress</dc:title>
</cp:coreProperties>
</file>